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7.jpeg" ContentType="image/jpeg"/>
  <Override PartName="/ppt/media/image3.png" ContentType="image/png"/>
  <Override PartName="/ppt/media/image4.jpeg" ContentType="image/jpeg"/>
  <Override PartName="/ppt/media/image6.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DBE73-CE10-40D8-AE26-34D687AC0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12BB4-0D3C-4260-8D3C-9595ED747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3B560-9294-426A-8C2F-A83C7D64C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FFE7E-A0D7-4586-AADA-F4300C562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C38F0-1133-4335-904C-88599317A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191B8-9E5E-4D74-A9C7-CAD39317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94594-4CF7-40E9-B58D-9D83B8E15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3D571-39EC-49E7-8266-90BAF2007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4886A-83D3-48DB-BD30-2D17C45D4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8CD1-E0A1-470D-85E7-C6E04263C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C447-B685-421B-B99A-4A607A947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2852-1A5A-4693-8FE8-E970023A4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80AC-971F-4C11-AEF0-C3A7BE142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lchemylab.com/flameldwgs.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chem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de Sel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chemis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time that alchemy was a major part of science there were three main groups that practiced the art. Those three groups we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ne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gyptia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nese Alchemists:</a:t>
            </a:r>
            <a:br>
              <a:rPr sz="4000"/>
            </a:br>
            <a:r>
              <a:rPr b="0" lang="en-US" sz="4000" spc="-1" strike="noStrike">
                <a:solidFill>
                  <a:srgbClr val="000000"/>
                </a:solidFill>
                <a:latin typeface="Arial"/>
              </a:rPr>
              <a:t>Overview</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alchemists were the second group of alchemists to bring forth the science of alchem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alchemists were hired by the lords of their l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d mini ceremonies before they started their alchemy. The ceremonies were dedicated to a goddess named Sto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ve was the goddess of cooking and brewing medicines so she was regarded as a kind of watchful eye over the alchemi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nese officials decided to band the creation of gold through alchemical means because the people who hired the alchemists for that purpose were abusing the ability to make g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nese Alchemists:</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 alchemists had two main goal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the elixir of lif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rmation of alchemical gol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nese alchemists tried to reach their goals but many were failed attempts. Gold was made in small quantities but the elixir of life was found as unrealistic and caused the downfall of the practice of alchemy in that area.</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nese Alchemists:</a:t>
            </a:r>
            <a:br>
              <a:rPr sz="4000"/>
            </a:br>
            <a:r>
              <a:rPr b="0" lang="en-US" sz="4000" spc="-1" strike="noStrike">
                <a:solidFill>
                  <a:srgbClr val="000000"/>
                </a:solidFill>
                <a:latin typeface="Arial"/>
              </a:rPr>
              <a:t>What we gained from them</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ough Chinese alchemy wasn’t as successful as they would have wanted it to be, it still gave us something that we still use today. What we gained was an oxymoron to what they were trying to get; they wanted to prolong life but what they made had the ability to kill, gunpow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powder was made after a number of failed attempts in creating the elixir of life by a man by the name of  </a:t>
            </a:r>
            <a:r>
              <a:rPr b="0" lang="en-US" sz="2400" spc="-1" strike="noStrike">
                <a:solidFill>
                  <a:srgbClr val="000000"/>
                </a:solidFill>
                <a:latin typeface="Arial"/>
                <a:ea typeface="ＭＳ Ｐゴシック"/>
              </a:rPr>
              <a:t>Tseng Kung-Liang . He later published the formula for gunpowder and the powder spread through the known world like wildfire. </a:t>
            </a:r>
            <a:endParaRPr b="0" lang="en-US" sz="2400" spc="-1" strike="noStrike">
              <a:solidFill>
                <a:srgbClr val="000000"/>
              </a:solidFill>
              <a:latin typeface="Arial"/>
            </a:endParaRPr>
          </a:p>
        </p:txBody>
      </p:sp>
      <p:pic>
        <p:nvPicPr>
          <p:cNvPr id="74" name="" descr=""/>
          <p:cNvPicPr/>
          <p:nvPr/>
        </p:nvPicPr>
        <p:blipFill>
          <a:blip r:embed="rId1"/>
          <a:stretch/>
        </p:blipFill>
        <p:spPr>
          <a:xfrm>
            <a:off x="4114800" y="5000760"/>
            <a:ext cx="2381400" cy="185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yptian Alchemists:</a:t>
            </a:r>
            <a:br>
              <a:rPr sz="4000"/>
            </a:br>
            <a:r>
              <a:rPr b="0" lang="en-US" sz="4000" spc="-1" strike="noStrike">
                <a:solidFill>
                  <a:srgbClr val="000000"/>
                </a:solidFill>
                <a:latin typeface="Arial"/>
              </a:rPr>
              <a:t>Overview</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Alchemists were the very first alchemists to start the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gyptian alchemist Hermes Trismegistus was the first alchemists in recorded hist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alchemists were hired by someone of higher power then the alchemist himself to create g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mes Trismegistus and Egyptian Astronomy</a:t>
            </a:r>
            <a:endParaRPr b="0" lang="en-US" sz="4000" spc="-1" strike="noStrike">
              <a:solidFill>
                <a:srgbClr val="000000"/>
              </a:solidFill>
              <a:latin typeface="Arial"/>
            </a:endParaRPr>
          </a:p>
        </p:txBody>
      </p:sp>
      <p:pic>
        <p:nvPicPr>
          <p:cNvPr id="78" name="" descr=""/>
          <p:cNvPicPr/>
          <p:nvPr/>
        </p:nvPicPr>
        <p:blipFill>
          <a:blip r:embed="rId1"/>
          <a:stretch/>
        </p:blipFill>
        <p:spPr>
          <a:xfrm>
            <a:off x="533520" y="1676520"/>
            <a:ext cx="2962080" cy="3809880"/>
          </a:xfrm>
          <a:prstGeom prst="rect">
            <a:avLst/>
          </a:prstGeom>
          <a:ln w="0">
            <a:noFill/>
          </a:ln>
        </p:spPr>
      </p:pic>
      <p:pic>
        <p:nvPicPr>
          <p:cNvPr id="79" name="" descr=""/>
          <p:cNvPicPr/>
          <p:nvPr/>
        </p:nvPicPr>
        <p:blipFill>
          <a:blip r:embed="rId2"/>
          <a:stretch/>
        </p:blipFill>
        <p:spPr>
          <a:xfrm>
            <a:off x="5867280" y="1143000"/>
            <a:ext cx="2641680" cy="541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yptian Alchemists:</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alchemy was a little more complicated then the others because of the way that the Egyptians thought of alchem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chemists believed that alchemy was </a:t>
            </a:r>
            <a:r>
              <a:rPr b="0" lang="en-US" sz="3200" spc="-1" strike="noStrike">
                <a:solidFill>
                  <a:srgbClr val="000000"/>
                </a:solidFill>
                <a:latin typeface="Arial"/>
                <a:ea typeface="ＭＳ Ｐゴシック"/>
              </a:rPr>
              <a:t>a science of eternal life. This was also partnered with their belief that everything had a soul and every soul had a thing attached to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yptian Alchemists:</a:t>
            </a:r>
            <a:br>
              <a:rPr sz="4000"/>
            </a:br>
            <a:r>
              <a:rPr b="0" lang="en-US" sz="4000" spc="-1" strike="noStrike">
                <a:solidFill>
                  <a:srgbClr val="000000"/>
                </a:solidFill>
                <a:latin typeface="Arial"/>
              </a:rPr>
              <a:t>What we gained from them</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alchemists played one of the most important roles in the history of alchemy because they introduced the science to the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cience has lead to the present day chemistry, so, the Egyptian alchemists can be regarded as the creators of a primitive sort of chemis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Alchemists:</a:t>
            </a:r>
            <a:br>
              <a:rPr sz="4000"/>
            </a:br>
            <a:r>
              <a:rPr b="0" lang="en-US" sz="4000" spc="-1" strike="noStrike">
                <a:solidFill>
                  <a:srgbClr val="000000"/>
                </a:solidFill>
                <a:latin typeface="Arial"/>
              </a:rPr>
              <a:t>Overview</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ans learned the art of alchemy from the Spaniards who gained this information from monks who taught the Spanish explorers about the art and it’s purpos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Alchemists were hired by the kings and nobl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alchemists were the original  wizards because of their odd experi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Alchemists:</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uropean alchemists had two main goal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orm gold through alchemical mea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reate the Philosopher’s ston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s and nobles would hire alchemists to make gold while others would work on the creation of the Philosopher’s stone (sometimes referred to as the elixir of life depending on what culture you are referring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lchemical Theor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hemy: the expansion of consciousness and development of insight through i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e alchemical theory can trace its origins back to ancient Gree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e alchemical theory differs depending on the goals of the area of practice.</a:t>
            </a:r>
            <a:endParaRPr b="0" lang="en-US" sz="3200" spc="-1" strike="noStrike">
              <a:solidFill>
                <a:srgbClr val="000000"/>
              </a:solidFill>
              <a:latin typeface="Arial"/>
            </a:endParaRPr>
          </a:p>
        </p:txBody>
      </p:sp>
      <p:pic>
        <p:nvPicPr>
          <p:cNvPr id="45" name="" descr=""/>
          <p:cNvPicPr/>
          <p:nvPr/>
        </p:nvPicPr>
        <p:blipFill>
          <a:blip r:embed="rId1"/>
          <a:stretch/>
        </p:blipFill>
        <p:spPr>
          <a:xfrm>
            <a:off x="7391520" y="5257800"/>
            <a:ext cx="961920" cy="135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Alchemists:</a:t>
            </a:r>
            <a:br>
              <a:rPr sz="4000"/>
            </a:br>
            <a:r>
              <a:rPr b="0" lang="en-US" sz="4000" spc="-1" strike="noStrike">
                <a:solidFill>
                  <a:srgbClr val="000000"/>
                </a:solidFill>
                <a:latin typeface="Arial"/>
              </a:rPr>
              <a:t>What we gained from them</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Alchemists triggered the idea of chemistry and astronomy in the minds of the alchemists and allowed for those sciences to be put into pl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icolas Flamel: The Immortal French Alchemist (1330-1418, assumed dead)</a:t>
            </a:r>
            <a:endParaRPr b="0" lang="en-US" sz="4000" spc="-1" strike="noStrike">
              <a:solidFill>
                <a:srgbClr val="000000"/>
              </a:solidFill>
              <a:latin typeface="Arial"/>
            </a:endParaRPr>
          </a:p>
        </p:txBody>
      </p:sp>
      <p:sp>
        <p:nvSpPr>
          <p:cNvPr id="91" name="PlaceHolder 2"/>
          <p:cNvSpPr>
            <a:spLocks noGrp="1"/>
          </p:cNvSpPr>
          <p:nvPr>
            <p:ph/>
          </p:nvPr>
        </p:nvSpPr>
        <p:spPr>
          <a:xfrm>
            <a:off x="4572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known alchemists is the famed Nicolas Flam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olas Flamel gained his fame from being known as the first and only alchemist to create the Philosopher’s st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olas Flamel disappeared after he created the Philosopher’s stone and the only man that knew where he was died without telling anyone where he went or if he was still alive or not.</a:t>
            </a:r>
            <a:endParaRPr b="0" lang="en-US" sz="2000" spc="-1" strike="noStrike">
              <a:solidFill>
                <a:srgbClr val="000000"/>
              </a:solidFill>
              <a:latin typeface="Arial"/>
            </a:endParaRPr>
          </a:p>
        </p:txBody>
      </p:sp>
      <p:pic>
        <p:nvPicPr>
          <p:cNvPr id="92" name="" descr=""/>
          <p:cNvPicPr/>
          <p:nvPr/>
        </p:nvPicPr>
        <p:blipFill>
          <a:blip r:embed="rId1"/>
          <a:stretch/>
        </p:blipFill>
        <p:spPr>
          <a:xfrm>
            <a:off x="5486400" y="1752480"/>
            <a:ext cx="296388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colas Flamel’s Not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alchemylab.com/flameldwgs.htm</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ite shows some of Flamel’s notes he took while he was making the Philosopher’s s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lchemical Proces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hemists used the alchemical process to reach their goals in alche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differs from place to place depending on the alchemists’ goals</a:t>
            </a:r>
            <a:endParaRPr b="0" lang="en-US" sz="2800" spc="-1" strike="noStrike">
              <a:solidFill>
                <a:srgbClr val="000000"/>
              </a:solidFill>
              <a:latin typeface="Arial"/>
            </a:endParaRPr>
          </a:p>
        </p:txBody>
      </p:sp>
      <p:pic>
        <p:nvPicPr>
          <p:cNvPr id="48" name="" descr=""/>
          <p:cNvPicPr/>
          <p:nvPr/>
        </p:nvPicPr>
        <p:blipFill>
          <a:blip r:embed="rId1"/>
          <a:stretch/>
        </p:blipFill>
        <p:spPr>
          <a:xfrm>
            <a:off x="5052960" y="1824120"/>
            <a:ext cx="3229200" cy="407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conceptions about the alchemical proces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hemy may appear to be a magical art rather then a scien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hemy dealt with real animals, not those of mythology or magical origi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used real chemicals and process in their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 to Full Metal Alchemis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Alchem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labs to perform alchem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uman sacrifices need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er’s Stone can create gold and give the user immortality</a:t>
            </a:r>
            <a:endParaRPr b="0" lang="en-US" sz="28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Metal Alchemis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do alchemy anywhe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sacrifices needed for certain thing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er’s Stone only enhanced alchemical 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ilosopher’s stone: Importance of the Ston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ilosopher’s Stone is the most important thing in alchemy.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chemists would try to create the stone by any means necessar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one was sought after by many generations of alchemist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 is a stone that is not actually a stone’ ~Unknown</a:t>
            </a:r>
            <a:endParaRPr b="0" lang="en-US" sz="2400" spc="-1" strike="noStrike">
              <a:solidFill>
                <a:srgbClr val="000000"/>
              </a:solidFill>
              <a:latin typeface="Arial"/>
            </a:endParaRPr>
          </a:p>
        </p:txBody>
      </p:sp>
      <p:pic>
        <p:nvPicPr>
          <p:cNvPr id="56"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ilosopher’s Stone: powers and appearance</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s of the philosopher’s stone are as follow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ortality</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utation of base metals into gold and silver</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ying the human spirit</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one is known as a purified substance that is only pure after many different stages of ‘evolution’. </a:t>
            </a: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earance of the Philosopher’s stone is highly controversi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f the more common colors are crimson and cle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merald Tablet</a:t>
            </a:r>
            <a:endParaRPr b="0" lang="en-US" sz="4400" spc="-1" strike="noStrike">
              <a:solidFill>
                <a:srgbClr val="000000"/>
              </a:solidFill>
              <a:latin typeface="Arial"/>
            </a:endParaRPr>
          </a:p>
        </p:txBody>
      </p:sp>
      <p:sp>
        <p:nvSpPr>
          <p:cNvPr id="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ald Tablet is a special document written by Hermes Trismegistos, the father of alchemy and famous Egyptian alchemis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t contained a secret formula in the language that the alchemists underst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t was so important that all alchemists hung a copy of it in the place where they practiced their alchemy.  </a:t>
            </a:r>
            <a:endParaRPr b="0" lang="en-US" sz="2800" spc="-1" strike="noStrike">
              <a:solidFill>
                <a:srgbClr val="000000"/>
              </a:solidFill>
              <a:latin typeface="Arial"/>
            </a:endParaRPr>
          </a:p>
        </p:txBody>
      </p:sp>
      <p:pic>
        <p:nvPicPr>
          <p:cNvPr id="62" name="" descr=""/>
          <p:cNvPicPr/>
          <p:nvPr/>
        </p:nvPicPr>
        <p:blipFill>
          <a:blip r:embed="rId1"/>
          <a:stretch/>
        </p:blipFill>
        <p:spPr>
          <a:xfrm>
            <a:off x="6248520" y="4510080"/>
            <a:ext cx="2895480" cy="23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merald Tablet Co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t contains a 7 step process in it to reach the goal of the table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is for sure about what the true formula is nor what the tablet’s formula achieves but all we know is that it was essential for the alchemists of that time. </a:t>
            </a:r>
            <a:endParaRPr b="0" lang="en-US" sz="2400" spc="-1" strike="noStrike">
              <a:solidFill>
                <a:srgbClr val="000000"/>
              </a:solidFill>
              <a:latin typeface="Arial"/>
            </a:endParaRPr>
          </a:p>
        </p:txBody>
      </p:sp>
      <p:pic>
        <p:nvPicPr>
          <p:cNvPr id="65" name="" descr=""/>
          <p:cNvPicPr/>
          <p:nvPr/>
        </p:nvPicPr>
        <p:blipFill>
          <a:blip r:embed="rId1"/>
          <a:stretch/>
        </p:blipFill>
        <p:spPr>
          <a:xfrm>
            <a:off x="5105520" y="914400"/>
            <a:ext cx="373356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5:15:19Z</dcterms:created>
  <dc:creator>cec68</dc:creator>
  <dc:description/>
  <dc:language>en-US</dc:language>
  <cp:lastModifiedBy>cec68</cp:lastModifiedBy>
  <dcterms:modified xsi:type="dcterms:W3CDTF">2009-08-26T17:42:43Z</dcterms:modified>
  <cp:revision>19</cp:revision>
  <dc:subject/>
  <dc:title>Alchemy</dc:title>
</cp:coreProperties>
</file>